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469-E374-403B-A607-010FE49D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400-2B69-4C7A-BBB6-11982534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38F-82EE-43E4-9178-6F288309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469-FB70-4A6C-AE9D-5EFB245B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A214-A813-40E9-A124-1ABD1225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A1BC-1CD0-4558-8665-7A9BFFE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4D07-A086-4D22-9D48-56EF5726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3236-AFBF-4073-93F4-171E370A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8862-75D4-452B-8EE2-280E167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0EDA-4EB8-4068-B6E2-88D4A14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A738-714C-4510-8D78-230ABF9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4BD-AE7A-46F4-A175-F45109E5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D09-C79F-4C61-A789-AE679778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421E-5FCA-429B-84CC-153CA7B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AEE2-43FE-413F-9020-8172BC55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2053-152E-471F-8B3A-DBF94896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0A1-C66D-47F1-8499-9E13D8D4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6D07-F6EE-4829-BB8F-D69C9730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0684-AEE8-4D6B-9DD8-4C3474DC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DAFB-E6D4-4109-8E9E-23F47C31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1E3CA-E617-489E-B52B-D2BBE38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3BE4-F626-47BD-85AA-A1928759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E55-9681-4739-A5C9-BFEF3F05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18B9-3F7E-485C-8174-26422226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DBD9-079D-4F24-97F5-901F096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0DFA-ED95-4059-A948-18A50C0A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D2BF-F8E1-45FE-9479-C8AACA4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4A1A-E332-40D2-927A-76A529FF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E1CC-9C27-4E96-983E-5C1944E0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2B9F-4A16-4A82-9E57-59E96F50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01ED-2E92-4D03-9C51-2E588261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0395-6CA8-4B6F-AF97-DFDC1CB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BDA3-3E70-473E-8122-8149DDA7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80D-791E-4D6E-A16D-F347D8EC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ECE3-AA6D-43DB-9CDA-635F13B9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3E5A-66B4-416A-A61E-A7AABC5B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35AC-EB79-4DBB-BA6B-91F5D2BE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A84A-B9A4-434D-8A09-AA9C29BF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75C1-8512-4D26-A343-2D865D41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9620-0330-442F-B8FA-01C3F1B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2869-5475-44E8-95FB-5E0DEA52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24E0-82BC-4EF8-81A8-CC71E009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8CDB-6566-482C-9FB0-6426CF6A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6083-A4D2-41DA-A1A2-FBF66A3A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318-9891-475C-83D3-6AC45F3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25F7-A9F9-4A26-927B-1DB9F18A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C445E-4371-4748-B984-BB0FF746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8B51-4C2C-4128-9252-F9AC603C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AB6D0-FD58-4499-8DA2-8DA445A7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29BE7-5535-4A49-A13C-7F97C2F9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6602C-A316-4001-96B5-BEB17B06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D07F-CCE2-460F-BB69-61918D3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D32B-A491-4728-B765-588CCBD4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F88C-EC04-4FD6-BBAA-C4E282FC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89C81-2A60-484D-B9E2-04C7D092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ABC-1FEF-41D2-BCB5-A6D027A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38C1-CFE1-40CC-A71F-CE43B049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978-E877-413D-BCAE-42DA131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30E-C743-49C4-9275-EED34F6E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AC8-CCF9-4766-BCFE-9543B81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103990-3601-44DC-B0A9-748F6E2A92C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827CA9-485D-455D-9CF8-BB3034139BEA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0A62E8-C6E6-4C88-9D71-FC161B3D4367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53E571-19A5-4C1A-9085-453B621D2AB3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BE7F56-0071-433B-BB1E-FB4EFEC63AD7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Солнышко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79640" y="54936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PE03213_"/>
          <p:cNvPicPr/>
          <p:nvPr/>
        </p:nvPicPr>
        <p:blipFill>
          <a:blip r:embed="rId1"/>
          <a:stretch/>
        </p:blipFill>
        <p:spPr>
          <a:xfrm>
            <a:off x="468360" y="2924280"/>
            <a:ext cx="3255840" cy="3338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2955960" indent="0" algn="ctr">
              <a:lnSpc>
                <a:spcPct val="100000"/>
              </a:lnSpc>
              <a:buNone/>
              <a:tabLst>
                <a:tab algn="l" pos="0"/>
                <a:tab algn="l" pos="1082520"/>
                <a:tab algn="l" pos="277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700" spc="-1" strike="noStrike">
                <a:solidFill>
                  <a:srgbClr val="ff0000"/>
                </a:solidFill>
                <a:latin typeface="Century Schoolbook"/>
              </a:rPr>
              <a:t>В дружбе - </a:t>
            </a:r>
            <a:r>
              <a:rPr b="1" lang="ru-RU" sz="7700" spc="-1" strike="noStrike">
                <a:solidFill>
                  <a:srgbClr val="ff8d3e"/>
                </a:solidFill>
                <a:latin typeface="Century Schoolbook"/>
              </a:rPr>
              <a:t>     </a:t>
            </a:r>
            <a:r>
              <a:rPr b="1" lang="en-US" sz="7700" spc="-1" strike="noStrike">
                <a:solidFill>
                  <a:srgbClr val="ff8d3e"/>
                </a:solidFill>
                <a:latin typeface="Century Schoolbook"/>
              </a:rPr>
              <a:t>                  </a:t>
            </a:r>
            <a:endParaRPr b="1" lang="en-US" sz="7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347640" y="3500280"/>
            <a:ext cx="5545080" cy="2138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700" spc="-1" strike="noStrike">
                <a:solidFill>
                  <a:srgbClr val="ff0000"/>
                </a:solidFill>
                <a:latin typeface="Century Gothic"/>
              </a:rPr>
              <a:t>сила</a:t>
            </a:r>
            <a:endParaRPr b="0" lang="en-US" sz="7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826920" y="1197000"/>
            <a:ext cx="93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4427640" y="4581360"/>
            <a:ext cx="8395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80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6227640" y="549360"/>
            <a:ext cx="10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6948360" y="3141720"/>
            <a:ext cx="152100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971640" y="3645000"/>
            <a:ext cx="11221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492360" y="2205000"/>
            <a:ext cx="122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2268360" y="2205000"/>
            <a:ext cx="8398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80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3"/>
          <p:cNvSpPr txBox="1"/>
          <p:nvPr/>
        </p:nvSpPr>
        <p:spPr>
          <a:xfrm>
            <a:off x="3276720" y="234936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4427640" y="2349360"/>
            <a:ext cx="129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724360" y="1989000"/>
            <a:ext cx="93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6804000" y="2349360"/>
            <a:ext cx="10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1008000" y="2446200"/>
            <a:ext cx="93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з толкового словаря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ергея Ивановича Ожего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ружба – отношения, основанные на взаимном доверии, привязанности, общности интересов»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592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гра «Закончи пословицу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05228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й сто рублей, а имей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 друзей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без друзей, что дерев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з корней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ищи, а найдеш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рег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живет корнями, а человек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зьям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, как стекло: разобьешь –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сложишь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несчасть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гра «Кто с кем дружит?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ctr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крокодил Гена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бурашка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чивый Буратино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львина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ной мишка Вини-Пух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ятачок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ый бурундук Чип и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л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Малыш и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лсон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группы: «Звонкие голоса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группы: «Любители - читател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группы: «Собиратели – издатели»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оны дружбы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492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 другу в бе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с другом разделить рад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йся над недостатками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 друга, если он делает что – то плох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принять помощь, совет, не обижайся на крити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манывай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признать свои ошибки, помириться с друг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авай своего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сь к своему другу так, как тебе хотелось бы, чтобы относились к те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39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Verdana"/>
              </a:rPr>
              <a:t>Спасибо,</a:t>
            </a:r>
            <a:br>
              <a:rPr sz="9600"/>
            </a:br>
            <a:r>
              <a:rPr b="1" i="1" lang="ru-RU" sz="9600" spc="-1" strike="noStrike">
                <a:solidFill>
                  <a:srgbClr val="ff8d3e"/>
                </a:solidFill>
                <a:latin typeface="Verdana"/>
              </a:rPr>
              <a:t>что ты                 </a:t>
            </a:r>
            <a:r>
              <a:rPr b="1" i="1" lang="ru-RU" sz="9600" spc="-1" strike="noStrike">
                <a:solidFill>
                  <a:srgbClr val="ff0000"/>
                </a:solidFill>
                <a:latin typeface="Verdana"/>
              </a:rPr>
              <a:t>рядом</a:t>
            </a:r>
            <a:r>
              <a:rPr b="1" i="1" lang="ru-RU" sz="9600" spc="-1" strike="noStrike">
                <a:solidFill>
                  <a:srgbClr val="ff8d3e"/>
                </a:solidFill>
                <a:latin typeface="Verdana"/>
              </a:rPr>
              <a:t>!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5:32:14Z</dcterms:created>
  <dc:creator>1</dc:creator>
  <dc:description/>
  <cp:keywords/>
  <dc:language>en-US</dc:language>
  <cp:lastModifiedBy>User</cp:lastModifiedBy>
  <dcterms:modified xsi:type="dcterms:W3CDTF">2021-10-15T09:00:42Z</dcterms:modified>
  <cp:revision>31</cp:revision>
  <dc:subject/>
  <dc:title>Давайте жить дружно!</dc:title>
</cp:coreProperties>
</file>